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65A-E1B6-4DA0-8279-0D51E5DE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DD4-4C2E-42B2-971C-5A963CA3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99F-B5AF-4962-BB24-BF6DC746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F95-8329-43DB-8137-D996DFB4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D93E-AFA2-4D38-9042-22CD1FFD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553E-6D19-49B0-820B-599BE495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6882-7FAC-48F2-9A75-5DCA6A6F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01DB-136E-49B3-AEC3-3AE70BB2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BAF1-784B-4787-8764-EEB17D1B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8921-1208-4841-A3A3-FAD88996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1FFA-38FC-402D-B6CD-70C8CC3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A4D-5DEA-4812-8E6B-107602B3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A811-8B57-4C68-9CA1-44E1E1A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B6A6-8821-4830-A24B-3926F26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10A2-3721-4EC8-B3C2-0DECBE44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7449-41BD-4425-BAE2-FA361413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6042-3FD1-4260-B418-DB18307F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0C6-7C7D-46FA-A903-865608C1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E63-F899-4A2A-AD71-383AFDDF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BF8-84C2-4718-BAAB-BFCBD218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5BC-1874-490F-9614-6C191618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439-CC3A-4760-99FD-DDCA5F80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B89-B041-456F-8D20-4CF85DC5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EE8-F7CF-471C-883D-6DC31CAF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146-D94C-4B25-A120-B66BBBE3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2F6B-19A7-4FC8-80F1-22787BC0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d108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Diversity Module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spects to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inar November 1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versity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term diversity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o your peers (fellow administrators, faculty, staf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diversity in schools with children of one color (all white, all African American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diversity drive rules, policies, programmatic dec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dent Disciplin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disciplined at you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ata disaggregated to reflect the multiple sub-populations in you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chool rules negatively impact particular sub-populations within you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versity and Miss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mission of your school/district achieving the intended out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being ser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sub-populations that are underserv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versity and Programs for Advanced Students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215800"/>
            <a:ext cx="80074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emographics of the students in your advanced programs/cl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y reflect the multiple sub-populations within your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versity and the Achievement Gap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chievement g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know when one ex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n achievement gap at you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 between what popu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10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being done to raise the fl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raising the cei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ve Edwards</cp:lastModifiedBy>
  <dcterms:modified xsi:type="dcterms:W3CDTF">2007-11-05T15:01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0977173</vt:r8>
  </property>
  <property fmtid="{D5CDD505-2E9C-101B-9397-08002B2CF9AE}" pid="3" name="_AuthorEmail">
    <vt:lpwstr>stevewedwards@comcast.net</vt:lpwstr>
  </property>
  <property fmtid="{D5CDD505-2E9C-101B-9397-08002B2CF9AE}" pid="4" name="_AuthorEmailDisplayName">
    <vt:lpwstr>Steve Edwards</vt:lpwstr>
  </property>
  <property fmtid="{D5CDD505-2E9C-101B-9397-08002B2CF9AE}" pid="5" name="_EmailSubject">
    <vt:lpwstr/>
  </property>
</Properties>
</file>